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3A2-D868-49A3-BE34-5F7A72C4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079-48BC-4729-9A4C-6FE812E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CE84-A222-4D11-B33E-5635705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587ED-792E-49C7-89C3-BC8C0EB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747D8-9DD4-4446-9083-C8596719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19554-7DE2-49E3-8E35-B323939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0F949-416F-4F81-8646-15A7112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F33B-44F3-49F8-B698-BE0D24F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A1893-2DB3-45E6-BEF2-F0335721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BC166-9275-4F32-BEBB-0DE9B7F7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E5594-FCFF-4551-BAB7-3569A936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89B-76EE-49E4-AA24-A68B9147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F64-0568-44F8-8D64-131A8220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3DC8-3063-4A8D-8D2A-FD07D26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6A62-E46A-4D15-9B4F-BF3F751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2F4-6D90-4E93-956A-351130E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4444-BAD1-4A48-ACBF-DF2BAD8E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06C-F6DC-449D-8D8F-B778511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F86-F58C-47B4-A2E5-A57FB00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833-6A04-4034-AD8E-8901429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A04-3C01-44CA-BB19-280BDB9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9C84-8FB7-4433-9D33-2000B67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A97B-4F96-4C45-8536-E6FB75B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999-AA28-42EC-9452-D073780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E835-1457-44DD-8D32-0E316B6D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5210-C74A-4816-ACA7-73963CAA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5642-3879-4C12-A72C-3816F465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8E74-21F1-4A16-B0B4-C48A5DCA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2FF1-8F7F-47BA-8E6E-1AFF3A2E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83F3-1CA8-4E93-9667-A6F5C73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BA3C-9B69-4635-8857-C53B18AA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963-4C06-42FB-BE53-5B9BE19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BC51-0CBA-44AC-9B05-D74592D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1321-FC89-4616-8D63-06B8EBD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33A5-1C89-4E10-96CB-3094E0F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F1AA-5274-4841-A032-E7936B4D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F4F4-1350-44B9-9E58-EB002639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6EA6-FE8C-4EFC-A9D8-B6450F97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104F-3980-4816-A2E5-B246A3E7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F349-8EC4-453E-88A3-196B445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EB8A-97AC-452B-833B-B0D75D8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B28C-8A49-4750-BE83-FF891B8D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D42-DBF9-4EC9-ABC6-29890995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469C-FF72-4903-B9E4-941D78E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77E8-0296-4B39-9CEC-319E2D0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75EF-1B9A-4A30-B1FA-90BCCF4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6874-06E8-4688-9DE9-5232F02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62DE-D33D-41DC-B0B0-7D55B8F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960D-3304-40D0-B92C-C2DBC2A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06E2-CBBC-4FFE-8652-3DD05B7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643F-2694-4DEC-9ADE-AA672FBD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25D8-7390-4320-8AA6-A33430BF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3866-DB83-4E90-BE04-9425E1AA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F11-02DD-4686-B45E-FF50714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B825-35B0-45C9-B6BB-591DC58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7AD0-D5CD-4A6B-A035-2CE63CE5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FFA4-AD93-4BE0-9EAA-6E6D8DE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B907-8938-43E4-BAF6-DBD357E1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B128-8223-4DB2-B2D5-501CA15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3A73-2B14-441A-A1B9-433FF65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6389E-46FD-4C1A-BD3D-A0EF7D3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D75B-5F50-4883-9D14-AFD5C27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98CD-DBD6-4665-B536-4A33874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B991-3E4D-48AF-A6C6-6D39165D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369-B17A-40B7-A405-1AF5A502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EB2C-5077-415B-9B62-6E5467EE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6F949-DBA0-46F7-AEB1-EA95C0EC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8BD7-4E59-4BAF-9B58-E7FAA9F6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9558-9F62-4B49-AB8F-517B96D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4BF17-6E20-4FCD-A785-3B0F1AF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E965-EDA9-4507-9D24-EF960140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3C96-E71D-4BA0-9628-5462D329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9A52-BFE4-4F85-AA32-0D90F58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C30B-5687-46E2-8B5B-95DB94E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DE7A-0A2A-47F8-A493-A09B624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421-9E26-4346-8F36-6AEECC8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D772F-C346-478F-8C15-8F4C31C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508A-E4CB-4236-B1BD-887D85DC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4C5E-BD2E-40F2-9F97-12A0EBBF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1768-FEC3-4165-9CF8-A295FC08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3811-12BD-4372-A685-1213559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7322-A5BF-4CB6-B871-B670D1D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1098-37E0-4824-878A-8AEB7DB7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AFC9-8EE1-4B8D-9366-B3D8FB1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1FD0-BBC4-40CC-9521-DE450EFF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B00A-4053-44B2-87E8-7AACB4F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A9E-EBBC-436E-8431-D7F986F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0A78-4B9C-449A-AD3D-D18B80D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E4DE-8639-4AC6-BE3B-676C17D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9856-3996-4032-BE26-6C03666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F9CE-F5DF-40E1-ABDC-486CE9DC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E008B-A494-4559-ABF7-416159B9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011DB-5E46-472E-920E-595DE348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8472-231E-486A-8318-05DDF330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09F9-84E1-4F47-A6B1-122E465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EF6A-66BC-4F3B-B295-D93A8AEC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4D557-DA11-4A77-9C78-7EF0CBF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F17-9D05-414B-9896-53385C1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3A02B-BE3D-4673-919A-A74EB5D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5415-F900-4FC7-8A0A-5A70CB2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65B65-70A0-47E0-84C5-E7F5467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C743E-40D6-424F-B87A-592B204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5E64-9138-4709-890F-460A950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F693-78AA-41FC-BE82-E71931F2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53B45-1F9C-4273-AE75-77796C8C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71F62-35BB-43C8-A599-1A142076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7B056-7674-44D6-8A67-1A5A3F61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E104-5B91-41C5-A5FF-4FB5D876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67A-B5CC-4BD3-83CC-E91BEE1E84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768-6496-43B9-8F89-D96E53CE69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79D9-09CA-4D75-A2B8-2F05676388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C69F-203B-43EB-A1DD-52B40CB334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E66-4896-413D-A1E2-04FEC5E24B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000-B24E-44BE-9DED-902D4E80F5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04D-BC42-4FDF-BB9E-EF97C53367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546B-4198-4D09-98A0-BA3AB2B8AE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936-B43A-4205-8305-323853BFACA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emical Names and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ntransition metal cations named as elemen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nmetal anions end in –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lyatomic ions usually end in –ate or –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ceptions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and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: Table 9.3 p. 25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f anion is polyatomic, name normally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= calcium sulfa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f anion is monatomic, add –ide at en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(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= calcium chlorid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Stock System- transition metal ion char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me metals can exist in several forms (Ex: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emical formula used to decide which ion is present (Ex: 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must be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en naming the ion the charge number is represented in roman numerals in parenthesis following the element  name  (Ex: copper (II) chloride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**  This is only done for elements that can have more than one possible charge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Writing Formulas 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of Molecular Compounds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ing Formulas (Example: Carbon Dioxid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etall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element first (Ex: carbon before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e symbols for each element next to one another (Ex: C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 subscripts to relate number of each atom in the molecule (Ex: </a:t>
            </a:r>
            <a:r>
              <a:rPr b="1" lang="en-US" sz="2400" spc="-1" strike="noStrike">
                <a:solidFill>
                  <a:srgbClr val="7030a0"/>
                </a:solidFill>
                <a:latin typeface="Perpetua"/>
              </a:rPr>
              <a:t>CO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eek Prefixes- KNOW: Table 9.4 p. 269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Molecular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ming Binary Molecular Compounds (Ex: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me in order appearing in formula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Ex: sulfur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ace ending of last element with -ide (Ex: sulfur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 prefixes to indicate number of each atom in molecule (Ex: </a:t>
            </a:r>
            <a:r>
              <a:rPr b="1" lang="en-US" sz="2400" spc="-1" strike="noStrike">
                <a:solidFill>
                  <a:srgbClr val="7030a0"/>
                </a:solidFill>
                <a:latin typeface="Perpetua"/>
              </a:rPr>
              <a:t>sulfur triox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te: mono is dropped if there is only one of the first atom.  It is used if there is only one of the second ato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941760" indent="-525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ids- form hydronium ions in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41760" indent="-525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inary Acids contain H and one non-metal  (HC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-525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ames of binary acids always begin with hydro and are completed by dropping the ending of the nonmetal and adding  -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Cl = Hydrochloric Aci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2" name="Picture 5" descr="Acid_med"/>
          <p:cNvPicPr/>
          <p:nvPr/>
        </p:nvPicPr>
        <p:blipFill>
          <a:blip r:embed="rId1"/>
          <a:stretch/>
        </p:blipFill>
        <p:spPr>
          <a:xfrm>
            <a:off x="7620120" y="38088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7"/>
          <p:cNvSpPr/>
          <p:nvPr/>
        </p:nvSpPr>
        <p:spPr>
          <a:xfrm>
            <a:off x="457200" y="3809880"/>
            <a:ext cx="7696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yacids contain H and a polyatomic anion which cont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yacids are named by dropping the –ate or –ite ending from the anion and adding –ic or –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= Hydrogen plus sulfate = 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= Hydrogen plus sulfite = sulfurous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calling the Periodic Tab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676520"/>
          <a:ext cx="8229600" cy="45259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t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leability/Ductility: hammered/draw to w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ting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heat/electricit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ecalling the Periodic Table 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(use chapter 5/6 if needed)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1676520"/>
          <a:ext cx="8229600" cy="45259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cept H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 or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r-liqu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t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f polish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leability/Ductility: hammered/draw to w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ting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ny &gt; 800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heat/electricit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w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periodic_col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riodic Table Re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240" y="14479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8640" indent="-548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roup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vertical columns within the periodic t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04680" indent="-470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Perpetua"/>
              </a:rPr>
              <a:t>Representative elements</a:t>
            </a: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- group “A” elements (columns1,2, 13-18 or s and p block elements)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lvl="1" marL="904680" indent="-470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Perpetua"/>
              </a:rPr>
              <a:t>Transition metals</a:t>
            </a: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- group “B” elements (columns 3-12 or d block elements).  Also include inner transition elements or f block elements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mportant families of element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lkali Metals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tals in group 1A that form +1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lkaline Earth Metal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metals in group 2A that form +2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aloge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onmetals in group 7A that form -1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ble gas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onmetals located in far right column that are generally nonreac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toms vs. 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3733920"/>
            <a:ext cx="8991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EUTRAL species with equal number of protons and electr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CHARGED species with unequal number of protons and electr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(+) ion [lost electron(s)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(-) ion [gained electron(s)]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3" name="Picture 8" descr="atom_ion_na"/>
          <p:cNvPicPr/>
          <p:nvPr/>
        </p:nvPicPr>
        <p:blipFill>
          <a:blip r:embed="rId1"/>
          <a:stretch/>
        </p:blipFill>
        <p:spPr>
          <a:xfrm>
            <a:off x="3733920" y="609480"/>
            <a:ext cx="2933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und- collection of atoms that is NEUTRAL over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olecular compound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sed of nonmet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onic compou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composed of cations and anions (metal ions and nonmetal ions) in a crystal latt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6" name="Picture 5" descr="nacl1"/>
          <p:cNvPicPr/>
          <p:nvPr/>
        </p:nvPicPr>
        <p:blipFill>
          <a:blip r:embed="rId1"/>
          <a:stretch/>
        </p:blipFill>
        <p:spPr>
          <a:xfrm>
            <a:off x="1447920" y="3886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compounds_molecules"/>
          <p:cNvPicPr/>
          <p:nvPr/>
        </p:nvPicPr>
        <p:blipFill>
          <a:blip r:embed="rId2"/>
          <a:stretch/>
        </p:blipFill>
        <p:spPr>
          <a:xfrm>
            <a:off x="4343400" y="3809880"/>
            <a:ext cx="39625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preting Chemical Formul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preting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olecular formul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indicates type and amount of each atom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Br I N Cl H O F exist as two atom molecules when ALONE!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Example: 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Formula uni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lowest ratio of ions in an ionic compound (so that charge is zer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tio of Atoms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Definite Propor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Multiple Proportions (Examples: 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riting Formulas of Ionic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5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20280" indent="-6202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ing Formulas of Ionic Compounds  (Ex: sodium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20280" indent="-620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dentify charge on metal and nonmetal ions- (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riss-cross superscripts to balance charge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eck if total formula has 0 charg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2  Na ions @ +1) + (1 O ion @ -2) = 0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e answer with subscript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te: Polyatomic (many atom) ions are written same except parenthesis are put around them if subscripts are ad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29400" indent="-543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:  Magnesium hydr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29400" indent="-543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+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=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15:10Z</dcterms:created>
  <dc:creator>udsd</dc:creator>
  <dc:description/>
  <dc:language>en-US</dc:language>
  <cp:lastModifiedBy>dpav</cp:lastModifiedBy>
  <dcterms:modified xsi:type="dcterms:W3CDTF">2011-12-23T16:36:05Z</dcterms:modified>
  <cp:revision>20</cp:revision>
  <dc:subject/>
  <dc:title>Chapter 5</dc:title>
</cp:coreProperties>
</file>